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100-E2B5-4606-A361-49D4360B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3FB-0925-47A7-9BB9-22621876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733-C5CC-4816-8B49-ECFBA6F6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625-C0C6-457C-BDA1-B4C15834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9E5-3AA3-4DCB-9914-2EAD21D0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79A-72CD-4BB6-A06E-3F40ACAC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DF7-65A9-49D3-9053-2B5A985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D19-A565-4C4C-988B-17F09A81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E9B-5304-4648-9BA0-E2B4F9A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73F4-A597-4653-9DCE-D7E7754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9A7-3D47-4DC1-A02D-242ED3F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61F-7004-454D-991A-AF4F3F50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E12D-11BC-48F0-9EC9-D1237921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33720" y="1047600"/>
            <a:ext cx="30765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260280"/>
            <a:ext cx="4572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24200" y="1238400"/>
            <a:ext cx="34956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525600"/>
            <a:ext cx="4572000" cy="58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00" y="1523880"/>
            <a:ext cx="244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17:10:01Z</dcterms:created>
  <dc:creator>Blair Lemons</dc:creator>
  <dc:description/>
  <dc:language>en-US</dc:language>
  <cp:lastModifiedBy>Blair Lemons</cp:lastModifiedBy>
  <dcterms:modified xsi:type="dcterms:W3CDTF">2009-06-25T17:10:09Z</dcterms:modified>
  <cp:revision>1</cp:revision>
  <dc:subject/>
  <dc:title>Slide 1</dc:title>
</cp:coreProperties>
</file>